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1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BF9E2D-9938-4B0D-B2EA-1E41230E7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C396227-0AC3-4428-96BC-F9D887A45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0DB672-2560-4B5D-8313-C9A3B29B8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136519-92CF-4F2A-B8DC-6436C749B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00C0D1-CA64-4D9E-AFF9-86CB86857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0D5DF3-5541-455C-9FDD-94F43B050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8231A4-DDE3-4E60-B3F7-6C8C86D6E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6CC8B4-3324-4497-B0AA-63D061FC7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F29EA7-6D8E-4CFB-931B-6EFDE9032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4054-FBDD-4D56-BC52-8DCC3F35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1E1-BD32-4F38-B614-86EDAEA6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5F25-423B-49B2-9FBC-23D77701F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44F6-1284-4D46-841D-6C484597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EBB-B585-45A2-A190-801BBD46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61F-A7D8-4E8E-B369-45736F4A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B5A-D80B-449A-8B11-94BF211C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203-4D3E-4E9B-8C57-3A773077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9CD-98DC-48E2-90F2-A0C8502A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479B-8940-4CAB-851A-92BDF399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E9E-A0EB-41A2-896E-7C96F298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F63-B523-4F28-8AF4-021AE614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-WBKGD1"/>
          <p:cNvPicPr/>
          <p:nvPr/>
        </p:nvPicPr>
        <p:blipFill>
          <a:blip r:embed="rId2"/>
          <a:srcRect l="0" t="0" r="0" b="197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9D77-FFCC-4A58-B98D-38C1F3EA090F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" name="Picture 9" descr="CGLOGO"/>
          <p:cNvPicPr/>
          <p:nvPr/>
        </p:nvPicPr>
        <p:blipFill>
          <a:blip r:embed="rId3"/>
          <a:stretch/>
        </p:blipFill>
        <p:spPr>
          <a:xfrm>
            <a:off x="7772400" y="14292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IALA%20logo1"/>
          <p:cNvPicPr/>
          <p:nvPr/>
        </p:nvPicPr>
        <p:blipFill>
          <a:blip r:embed="rId4"/>
          <a:srcRect l="0" t="1749" r="831" b="875"/>
          <a:stretch/>
        </p:blipFill>
        <p:spPr>
          <a:xfrm>
            <a:off x="0" y="0"/>
            <a:ext cx="102564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LA e-Navigation Committe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Cai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, IALA e-NAV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Nick 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 and Interfa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Hooijmans (Netherland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rle Hauge (Norway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on IALA Participation in IHO GI Registry (output/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Guideline on Procedures for the Mgmt of IALA Domains under GI Reg (output/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Guideline on Intro to Preparing S-100 Product Specs (output/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VTS on IVEF Product Specification (output/3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(output/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changes to Work Programme (output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PAP-Strategy on e-Navigation Strategy Items (output/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ANM on NAVGUIDE and draft revisions (output/2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for P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Plan based on Strategy input +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across IALA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 Registry Product Spe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 Spe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 concern over IALA’s role in e-N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s “on the bridge” – NAV58 d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ALA e-N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ing place for many proj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a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S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exchange of ideas and free / innovative thinking and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igation Suite; i.e., 7 Pi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NAV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304560"/>
            <a:ext cx="81532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9 registered attende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 countries, 4 Sister Organizations, 2 Obsv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 new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 out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 output documents for approval of Counc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draft Recommendations (+3 Annex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draft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revised MRCP and WWR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Council Information Pap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workshop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liaison notes to other organizations and IALA 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 Present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SEAS – N. 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rayal of AtoN Info on ENCs – D. Le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. Implementation of e-NAV – N. Riend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Suite – J-H Olt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of MSPs – J-H Olt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IS: Std Data Exchange – R. Hogendo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IALA adopt S-100 – J.Y. P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A – S. Benn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bed Portal – T. Pora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vious e-NAV WG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P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AIS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Architecture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Portra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6553080" y="3733920"/>
          <a:ext cx="16765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733920"/>
                    <a:ext cx="1676520" cy="11001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" name="Picture 4" descr="AIS"/>
          <p:cNvPicPr/>
          <p:nvPr/>
        </p:nvPicPr>
        <p:blipFill>
          <a:blip r:embed="rId3"/>
          <a:stretch/>
        </p:blipFill>
        <p:spPr>
          <a:xfrm>
            <a:off x="4419720" y="3429000"/>
            <a:ext cx="1523880" cy="111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1828800" cy="13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North Pacific heavy weather 02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11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Object 1"/>
          <p:cNvGraphicFramePr/>
          <p:nvPr/>
        </p:nvGraphicFramePr>
        <p:xfrm>
          <a:off x="4343400" y="5029200"/>
          <a:ext cx="2338560" cy="159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43400" y="5029200"/>
                    <a:ext cx="23385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3" descr=""/>
          <p:cNvPicPr/>
          <p:nvPr/>
        </p:nvPicPr>
        <p:blipFill>
          <a:blip r:embed="rId8"/>
          <a:stretch/>
        </p:blipFill>
        <p:spPr>
          <a:xfrm>
            <a:off x="6934320" y="5448240"/>
            <a:ext cx="2209680" cy="1409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vised e-NAV WG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rayal 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P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/4-AIS &amp;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Technical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 Data Modeling &amp; Interfa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7"/>
          <p:cNvGraphicFramePr/>
          <p:nvPr/>
        </p:nvGraphicFramePr>
        <p:xfrm>
          <a:off x="5715000" y="3200400"/>
          <a:ext cx="16765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200400"/>
                    <a:ext cx="16765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4" descr="AIS"/>
          <p:cNvPicPr/>
          <p:nvPr/>
        </p:nvPicPr>
        <p:blipFill>
          <a:blip r:embed="rId3"/>
          <a:stretch/>
        </p:blipFill>
        <p:spPr>
          <a:xfrm>
            <a:off x="4267080" y="3200400"/>
            <a:ext cx="1524240" cy="1119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1828800" cy="1306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North Pacific heavy weather 02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11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1"/>
          <p:cNvGraphicFramePr/>
          <p:nvPr/>
        </p:nvGraphicFramePr>
        <p:xfrm>
          <a:off x="4952880" y="4267080"/>
          <a:ext cx="1957680" cy="1338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52880" y="4267080"/>
                    <a:ext cx="19576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3" descr=""/>
          <p:cNvPicPr/>
          <p:nvPr/>
        </p:nvPicPr>
        <p:blipFill>
          <a:blip r:embed="rId8"/>
          <a:stretch/>
        </p:blipFill>
        <p:spPr>
          <a:xfrm>
            <a:off x="5410080" y="1600200"/>
            <a:ext cx="947880" cy="1143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Patraiko (Nautical Institut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hesh Alimchandani (Australi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IMO CG on e-NAV (output/4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d e-Navigation FAQs (output/2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Guideline on Harmonized Portrayal of e-Navigation Info (output/31, 3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EEP on e-NAV (output/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ANM on Risk Mgmt (output/8, 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North Pacific heavy weather 02"/>
          <p:cNvPicPr/>
          <p:nvPr/>
        </p:nvPicPr>
        <p:blipFill>
          <a:blip r:embed="rId1"/>
          <a:stretch/>
        </p:blipFill>
        <p:spPr>
          <a:xfrm>
            <a:off x="7315200" y="4648320"/>
            <a:ext cx="1606680" cy="109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NT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n Grant (UK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in Day (Ire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revised Recommendation R-129 on GNSS Vulnerability and Mitigation Measures (output/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ed WWR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EEP, WWA on WWA L2 Model Course Module 9 RNav (output/29, 29 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248520" y="5465880"/>
            <a:ext cx="289548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AIS"/>
          <p:cNvPicPr/>
          <p:nvPr/>
        </p:nvPicPr>
        <p:blipFill>
          <a:blip r:embed="rId1"/>
          <a:stretch/>
        </p:blipFill>
        <p:spPr>
          <a:xfrm>
            <a:off x="7238880" y="5451480"/>
            <a:ext cx="1905120" cy="146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S &amp; Co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6324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f Zetterberg (Swe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Kautz (USA) 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revised IALA Rec. A-124 with Appendices  (outputs/20-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. MRCP and Liaison note to ITU-R  (output/15, 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ITU WP5B on WRC 1.15 and 1.16 (output/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Rev. of Rec. ITU-R M.1371-4 and Liaison Note to ITU-R (output/18, 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7"/>
          <p:cNvGraphicFramePr/>
          <p:nvPr/>
        </p:nvGraphicFramePr>
        <p:xfrm>
          <a:off x="7238880" y="4191120"/>
          <a:ext cx="190512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191120"/>
                    <a:ext cx="190512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cal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-Hendrik Oltmann (German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Mueller (Tide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Information paper on the Architecture for the Provision of e-Navigation Services as seen from Ashore (output/2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"/>
          <p:cNvGraphicFramePr/>
          <p:nvPr/>
        </p:nvGraphicFramePr>
        <p:xfrm>
          <a:off x="5867280" y="4807080"/>
          <a:ext cx="315936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807080"/>
                    <a:ext cx="315936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5:53:10Z</dcterms:created>
  <dc:creator>nickw</dc:creator>
  <dc:description/>
  <dc:language>en-US</dc:language>
  <cp:lastModifiedBy>William R Cairns</cp:lastModifiedBy>
  <dcterms:modified xsi:type="dcterms:W3CDTF">2012-10-15T12:51:43Z</dcterms:modified>
  <cp:revision>117</cp:revision>
  <dc:subject/>
  <dc:title>PowerPoint Presentation</dc:title>
</cp:coreProperties>
</file>